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B9E3-AA92-47E6-82BF-D202BDD07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D269-4B9D-40A9-A513-3514DC98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FDC5-3175-4393-842E-B36EF8362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3FE1-FEB6-4355-9809-078092FD1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E97D-7AC7-465B-A1C3-35206859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6B8A-4AC4-4BB6-A7B6-D9DCE318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ECE3-81E0-43D3-9750-94F502FA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9133-F0FF-4BC7-9A7C-14A7942F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F8FD-CC98-4DC4-852C-BB15D669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2D44-CA9D-434F-9BD0-BD7C1EE2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62B0-C6DC-4FF6-90DD-C6BA5E71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4417-6011-4AA3-8DF7-8AA3CA70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3C7B-9937-47FE-B4E8-1205179A1D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2971800" y="3733920"/>
            <a:ext cx="3809880" cy="3886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3"/>
          <p:cNvSpPr/>
          <p:nvPr/>
        </p:nvSpPr>
        <p:spPr>
          <a:xfrm>
            <a:off x="152280" y="3733920"/>
            <a:ext cx="274320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152280" y="133200"/>
            <a:ext cx="6553440" cy="182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3505320" cy="13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arry S. Truman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@HSTRUMAN</a:t>
            </a:r>
            <a:br>
              <a:rPr sz="1100"/>
            </a:b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STRUMAN was the 33rd President of the United States. The final running mate of President Franklin D. Roosevelt in 1944, Truman succeeded to the presidency on April 12, 1945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123920" cy="1434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5424840" y="250920"/>
            <a:ext cx="1229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3,183 Twee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283 Fo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200,567 Follow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152280" y="1981080"/>
            <a:ext cx="6172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hort Bi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Personal background of your delegate (Birth, Education, Profession – Private/Public , Political Party,  Military Exper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What was their role at the Constitutional 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What was their view on the topic of represent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d.      What was their view on the topic of the execu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e.      How geography effects your delegate (where they live, how they make a living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304920" y="3795840"/>
            <a:ext cx="259056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Arial"/>
              </a:rPr>
              <a:t>3 Sample Follow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ben Barkely - @AlBa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Vice President under H.S. Truma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oseph Grew – @JoeGrew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retary of State for FDR &amp; Truman (194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ames Vincent Forrestal - @James4li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retary of Defen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9"/>
          <p:cNvSpPr/>
          <p:nvPr/>
        </p:nvSpPr>
        <p:spPr>
          <a:xfrm>
            <a:off x="228600" y="35812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12"/>
          <p:cNvSpPr/>
          <p:nvPr/>
        </p:nvSpPr>
        <p:spPr>
          <a:xfrm>
            <a:off x="304920" y="3657600"/>
            <a:ext cx="635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152280" y="6046920"/>
            <a:ext cx="714600" cy="97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1027080" y="6046920"/>
            <a:ext cx="803160" cy="971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4"/>
          <a:stretch/>
        </p:blipFill>
        <p:spPr>
          <a:xfrm>
            <a:off x="2057400" y="6046920"/>
            <a:ext cx="838080" cy="97128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3548160" y="6168960"/>
            <a:ext cx="307188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Harry S. Truman @HSTRUM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Boys, if you ever pray, pray for me now. I don't know if you fellas ever had a load of hay fall on you, but when they told me what happened yesterday, I felt like the moon, the stars, and all the planets had fallen on m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5"/>
          <a:stretch/>
        </p:blipFill>
        <p:spPr>
          <a:xfrm>
            <a:off x="3157560" y="6172200"/>
            <a:ext cx="357120" cy="457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6"/>
          <a:stretch/>
        </p:blipFill>
        <p:spPr>
          <a:xfrm>
            <a:off x="3146400" y="3965400"/>
            <a:ext cx="360360" cy="457200"/>
          </a:xfrm>
          <a:prstGeom prst="rect">
            <a:avLst/>
          </a:prstGeom>
          <a:ln w="0">
            <a:noFill/>
          </a:ln>
        </p:spPr>
      </p:pic>
      <p:sp>
        <p:nvSpPr>
          <p:cNvPr id="57" name="TextBox 8"/>
          <p:cNvSpPr/>
          <p:nvPr/>
        </p:nvSpPr>
        <p:spPr>
          <a:xfrm>
            <a:off x="3622680" y="5137200"/>
            <a:ext cx="29671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Harry S. Truman @HSTRUM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Spending time in Potsdam with @JoeStalin, @clementAttlee.  You boys haven’t seen anything like this befor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7"/>
          <a:stretch/>
        </p:blipFill>
        <p:spPr>
          <a:xfrm>
            <a:off x="3143160" y="5137200"/>
            <a:ext cx="360360" cy="457200"/>
          </a:xfrm>
          <a:prstGeom prst="rect">
            <a:avLst/>
          </a:prstGeom>
          <a:ln w="0">
            <a:noFill/>
          </a:ln>
        </p:spPr>
      </p:pic>
      <p:sp>
        <p:nvSpPr>
          <p:cNvPr id="59" name="TextBox 15"/>
          <p:cNvSpPr/>
          <p:nvPr/>
        </p:nvSpPr>
        <p:spPr>
          <a:xfrm>
            <a:off x="3622680" y="3979800"/>
            <a:ext cx="2362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@</a:t>
            </a:r>
            <a:r>
              <a:rPr b="0" lang="en-US" sz="1100" spc="-1" strike="noStrike">
                <a:solidFill>
                  <a:srgbClr val="1f497d"/>
                </a:solidFill>
                <a:latin typeface="Calibri"/>
                <a:ea typeface="Arial"/>
              </a:rPr>
              <a:t>JoeStali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:  Russians do not like surprises…I have an “idea” of what your developing.  @HSTRUMA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115920" y="7250040"/>
            <a:ext cx="20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Similar to Harry S. Tru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8"/>
          <a:stretch/>
        </p:blipFill>
        <p:spPr>
          <a:xfrm>
            <a:off x="171360" y="7554960"/>
            <a:ext cx="676440" cy="674640"/>
          </a:xfrm>
          <a:prstGeom prst="rect">
            <a:avLst/>
          </a:prstGeom>
          <a:ln w="0">
            <a:noFill/>
          </a:ln>
        </p:spPr>
      </p:pic>
      <p:sp>
        <p:nvSpPr>
          <p:cNvPr id="62" name="TextBox 18"/>
          <p:cNvSpPr/>
          <p:nvPr/>
        </p:nvSpPr>
        <p:spPr>
          <a:xfrm>
            <a:off x="870840" y="7753320"/>
            <a:ext cx="18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Paul Tibbets @PaulEnolaG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00:02:15Z</dcterms:created>
  <dc:creator>holzhauserj</dc:creator>
  <dc:description/>
  <dc:language>en-US</dc:language>
  <cp:lastModifiedBy>Holzhauser, Jacob</cp:lastModifiedBy>
  <cp:lastPrinted>2012-11-28T01:28:29Z</cp:lastPrinted>
  <dcterms:modified xsi:type="dcterms:W3CDTF">2014-11-13T18:51:13Z</dcterms:modified>
  <cp:revision>17</cp:revision>
  <dc:subject/>
  <dc:title>Harry S. Truman @HSTRUMAN  HSTRUMAN was the 33rd President of the United States. The final running mate of President Franklin D. Roosevelt in 1944, Truman succeeded to the presidency on April 12, 1945.</dc:title>
</cp:coreProperties>
</file>